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6CA-DD2A-44FD-9F62-BABDADA6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39A-50D8-401B-AF7A-87328BE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8FB-54FF-4FD7-AAC8-9DD6BB6D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54F-AFF5-437F-B377-05E4C1B8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761-938E-4446-9A68-B52FD6C5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73A-07B2-4AE9-A2E3-0C082490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A3E-A8E7-4249-88C8-90C64857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FE9-67B4-4B99-A8AC-F1B1EBCC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3F3-9993-4A48-B86F-E41E7617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217-7929-487E-8DF6-92A935C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BB9-106E-4483-978F-034185C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DB0-2545-4C58-ABBF-616F42F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F699-5129-4801-B1F3-BCE657087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522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45820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8610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749600"/>
            <a:ext cx="57909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   O        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8280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384880"/>
            <a:ext cx="167652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7010280"/>
            <a:ext cx="3352680" cy="13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701028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7315200"/>
            <a:ext cx="2286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7620120"/>
            <a:ext cx="22860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1960" y="762120"/>
            <a:ext cx="239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8080" y="762120"/>
            <a:ext cx="19760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 elector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37960" y="762120"/>
            <a:ext cx="25981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of years in this s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3     4     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O    O  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749600"/>
            <a:ext cx="5790960" cy="30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ation card                         Card No                               dd/mm/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Yes     No          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range Yellow  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       O         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O  O  O  O  O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  O  O  O  O  O  O  O  O  O  O       O  O  O  O  O 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057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238560"/>
            <a:ext cx="1314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 ID 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3320" y="4260960"/>
            <a:ext cx="2017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her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at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n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72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6496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40040" y="4260960"/>
            <a:ext cx="339408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acch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Own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mi-pukka              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akk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Rent amount/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82800" y="468468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3960" y="469584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384880"/>
            <a:ext cx="1676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21240" y="4260960"/>
            <a:ext cx="903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60640" y="46958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08520"/>
            <a:ext cx="12952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Own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orr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No el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5715000"/>
            <a:ext cx="990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5715000"/>
            <a:ext cx="2133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i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oak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p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ew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715000"/>
            <a:ext cx="11430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2360" y="614376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58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2960" y="6172200"/>
            <a:ext cx="100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496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0640" y="6172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60958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7010280"/>
            <a:ext cx="2361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id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55680" y="7423200"/>
            <a:ext cx="100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1280" y="7439040"/>
            <a:ext cx="100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7315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A</cp:lastModifiedBy>
  <dcterms:modified xsi:type="dcterms:W3CDTF">2007-06-01T17:24:5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